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23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1.gif" ContentType="image/gif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0DB-E4F2-41E6-BA18-E0122891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EC90-5A82-4590-81ED-434FA1CB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6B9-4811-47C4-AA58-ECFBCCE5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C0BF-A143-4A94-A1C3-C70BE3FA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585D-A199-4E26-AEC7-D9B80C4D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88FD-E312-4F1A-8153-BC0E7ED7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2CAD-6DFE-419A-8934-B9B3B232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CFA9-B530-4EFC-9571-941B0E43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CAE9-1608-4768-B793-848236FA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CADE-4CB0-4AEB-A383-1B951084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9882-8499-4BD6-B8A1-CC0BFB76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18EF-D6E9-4A00-80A4-AD1C04DB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6260-9AC1-48C9-88F1-ABA84E8ED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s.123rf.com/400wm/400/400/BVDC/BVDC0710/BVDC071000144/1990196.jpg" TargetMode="External"/><Relationship Id="rId2" Type="http://schemas.openxmlformats.org/officeDocument/2006/relationships/image" Target="../media/image40.jpeg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kuleuven-kortrijk.be/facult/wet/biologie/pb/kulakbiocampus/bomen-heesters/Betula%20pendula%20-%20Ruwe%20berk/Betula_pendula-ruwe_berk02.jpg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img1.liveinternet.ru/images/attach/c/3/76/758/76758085_malina_waciwa__Juhanson_gnu_CC_jpgsysfoto.png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dic.academic.ru/pictures/enc_colier/ph02059.jpg" TargetMode="External"/><Relationship Id="rId7" Type="http://schemas.openxmlformats.org/officeDocument/2006/relationships/image" Target="../media/image18.jpeg"/><Relationship Id="rId8" Type="http://schemas.openxmlformats.org/officeDocument/2006/relationships/hyperlink" Target="http://cl-zd.com/images/2011/02/1000list.jpg" TargetMode="External"/><Relationship Id="rId9" Type="http://schemas.openxmlformats.org/officeDocument/2006/relationships/image" Target="../media/image19.jpeg"/><Relationship Id="rId10" Type="http://schemas.openxmlformats.org/officeDocument/2006/relationships/hyperlink" Target="http://www.lekar-trava.ru/pic/plantago_major.jpg" TargetMode="External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23.pn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62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ло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стно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иво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вожно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муро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ечно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ороше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ально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достное испуганное похвальн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580000" y="2778120"/>
            <a:ext cx="310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одержимое 9" descr="листья.jpg"/>
          <p:cNvPicPr/>
          <p:nvPr/>
        </p:nvPicPr>
        <p:blipFill>
          <a:blip r:embed="rId1"/>
          <a:stretch/>
        </p:blipFill>
        <p:spPr>
          <a:xfrm>
            <a:off x="2124000" y="476280"/>
            <a:ext cx="5148360" cy="576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4" descr="--_1_~1.JPG"/>
          <p:cNvPicPr/>
          <p:nvPr/>
        </p:nvPicPr>
        <p:blipFill>
          <a:blip r:embed="rId1"/>
          <a:stretch/>
        </p:blipFill>
        <p:spPr>
          <a:xfrm>
            <a:off x="1692360" y="260280"/>
            <a:ext cx="5472000" cy="629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abpvb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2472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 появились 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ие бывают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ак правильно собирать лекарственные растения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добрать лечение для наших друз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одержимое 20" descr="сбор растений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79280" y="0"/>
            <a:ext cx="446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1.СОБИРАТЬЛЕКАРСТВЕН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           </a:t>
            </a: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РАСТЕНИЯ ДОЛЖЕ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2.ЛЕКАРСТВЕННЫЕ РАСТ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3.        ПРИ  СБО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.   НЕЛЬЗЯ СОБИРА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ЛЕКАРСТВЕННЫЕ РАСТ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3851280" y="2781360"/>
            <a:ext cx="4572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Calibri"/>
              </a:rPr>
              <a:t>КАЖДОЕ РАСТЕНИЕ НУЖНО КЛАСТЬ ОТДЕЛЬНО ОТ ДРУГОГО, ИСПОЛЬЗУЯ ПОЛОТНЯНЫЕ МЕШОЧКИ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4500720" y="5157720"/>
            <a:ext cx="43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ОКОЛО ШОССЕ, ДОРОГИ, ТРАССЫ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4356000" y="1844640"/>
            <a:ext cx="45720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Calibri"/>
              </a:rPr>
              <a:t>СОБИРАЮТ ТОГДА, КОГДА В НЁМ МНОГО АКТИВНЫХ ВЕ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4572000" y="0"/>
            <a:ext cx="457200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Calibri"/>
              </a:rPr>
              <a:t>ЗНАЮЩИЙ ЧЕЛОВЕК. ОН ДОЛЖЕН РАЗЛИЧАТЬ ЛЕКАРСТВЕННЫЕ РАСТЕНИЯ И ЗНАТЬ, ЧТО У ЭТОГО РАСТЕНИЯ НАДО ВЗЯТЬ: ЛИСТ, КОРЕНЬ ИЛИ СОЦВЕ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3995640" y="6129360"/>
            <a:ext cx="5148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ЗАНЕСЁННЫЕ В КРАСНУЮ КНИ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3564000" y="4005360"/>
            <a:ext cx="5256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Calibri"/>
              </a:rPr>
              <a:t>НАДО ВЗЯТЬ СТОЛЬКО, СКОЛЬКО НУ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244000" y="5689440"/>
            <a:ext cx="73980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08000" y="0"/>
            <a:ext cx="49784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50"/>
                </a:solidFill>
                <a:latin typeface="Calibri"/>
              </a:rPr>
              <a:t>ПОДОРОЖНИ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Image0005"/>
          <p:cNvPicPr/>
          <p:nvPr/>
        </p:nvPicPr>
        <p:blipFill>
          <a:blip r:embed="rId1"/>
          <a:stretch/>
        </p:blipFill>
        <p:spPr>
          <a:xfrm>
            <a:off x="324000" y="620640"/>
            <a:ext cx="3097080" cy="4194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6597360"/>
            <a:ext cx="8748720" cy="2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Image0033"/>
          <p:cNvPicPr/>
          <p:nvPr/>
        </p:nvPicPr>
        <p:blipFill>
          <a:blip r:embed="rId2"/>
          <a:stretch/>
        </p:blipFill>
        <p:spPr>
          <a:xfrm>
            <a:off x="3708360" y="2571840"/>
            <a:ext cx="2517840" cy="30240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5"/>
          <p:cNvSpPr/>
          <p:nvPr/>
        </p:nvSpPr>
        <p:spPr>
          <a:xfrm flipH="1">
            <a:off x="6803280" y="4219560"/>
            <a:ext cx="197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РА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ПОРЕЗ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ССАД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4284720" y="1397160"/>
            <a:ext cx="411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ОСТАНАВЛИВ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Р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7280" y="27432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1" lang="en-US" sz="5900" spc="-1" strike="noStrike">
                <a:solidFill>
                  <a:srgbClr val="00b050"/>
                </a:solidFill>
                <a:latin typeface="Calibri"/>
              </a:rPr>
              <a:t>ВАЛЕРИАНА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Image0001"/>
          <p:cNvPicPr/>
          <p:nvPr/>
        </p:nvPicPr>
        <p:blipFill>
          <a:blip r:embed="rId1"/>
          <a:stretch/>
        </p:blipFill>
        <p:spPr>
          <a:xfrm>
            <a:off x="179280" y="189000"/>
            <a:ext cx="4032360" cy="5097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Image0034"/>
          <p:cNvPicPr/>
          <p:nvPr/>
        </p:nvPicPr>
        <p:blipFill>
          <a:blip r:embed="rId2"/>
          <a:stretch/>
        </p:blipFill>
        <p:spPr>
          <a:xfrm>
            <a:off x="5867280" y="2565360"/>
            <a:ext cx="2394000" cy="31258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4362480" y="436572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ПЕЧ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5806440" y="5950080"/>
            <a:ext cx="23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БЕССОН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5725080" y="1916280"/>
            <a:ext cx="29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ГОЛОВНАЯ Б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2400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50"/>
                </a:solidFill>
                <a:latin typeface="Calibri"/>
              </a:rPr>
              <a:t>МАТЬ-И-МАЧЕХ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Image0031"/>
          <p:cNvPicPr/>
          <p:nvPr/>
        </p:nvPicPr>
        <p:blipFill>
          <a:blip r:embed="rId1"/>
          <a:stretch/>
        </p:blipFill>
        <p:spPr>
          <a:xfrm>
            <a:off x="179280" y="260280"/>
            <a:ext cx="3894120" cy="4838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Image0036"/>
          <p:cNvPicPr/>
          <p:nvPr/>
        </p:nvPicPr>
        <p:blipFill>
          <a:blip r:embed="rId2"/>
          <a:stretch/>
        </p:blipFill>
        <p:spPr>
          <a:xfrm>
            <a:off x="5435640" y="2852640"/>
            <a:ext cx="1920960" cy="26654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5"/>
          <p:cNvSpPr/>
          <p:nvPr/>
        </p:nvSpPr>
        <p:spPr>
          <a:xfrm>
            <a:off x="5794200" y="213372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ОЖ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4078800" y="3933720"/>
            <a:ext cx="15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АНГ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7"/>
          <p:cNvSpPr/>
          <p:nvPr/>
        </p:nvSpPr>
        <p:spPr>
          <a:xfrm>
            <a:off x="5938560" y="5732640"/>
            <a:ext cx="17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БРОНХ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8"/>
          <p:cNvSpPr/>
          <p:nvPr/>
        </p:nvSpPr>
        <p:spPr>
          <a:xfrm>
            <a:off x="7628760" y="3933720"/>
            <a:ext cx="150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АШ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50"/>
                </a:solidFill>
                <a:latin typeface="Calibri"/>
              </a:rPr>
              <a:t>ЗВЕРОБО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Image0030"/>
          <p:cNvPicPr/>
          <p:nvPr/>
        </p:nvPicPr>
        <p:blipFill>
          <a:blip r:embed="rId1"/>
          <a:stretch/>
        </p:blipFill>
        <p:spPr>
          <a:xfrm>
            <a:off x="250920" y="189000"/>
            <a:ext cx="3286080" cy="38876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292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Image0035"/>
          <p:cNvPicPr/>
          <p:nvPr/>
        </p:nvPicPr>
        <p:blipFill>
          <a:blip r:embed="rId2"/>
          <a:stretch/>
        </p:blipFill>
        <p:spPr>
          <a:xfrm>
            <a:off x="4788000" y="3213000"/>
            <a:ext cx="2436840" cy="30099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5"/>
          <p:cNvSpPr/>
          <p:nvPr/>
        </p:nvSpPr>
        <p:spPr>
          <a:xfrm>
            <a:off x="3857760" y="270828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аш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6"/>
          <p:cNvSpPr/>
          <p:nvPr/>
        </p:nvSpPr>
        <p:spPr>
          <a:xfrm>
            <a:off x="7010280" y="2637000"/>
            <a:ext cx="212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Укреп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дёс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5222880" y="6165720"/>
            <a:ext cx="13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ол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7093080" y="4508640"/>
            <a:ext cx="20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Болез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печ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9"/>
          <p:cNvSpPr/>
          <p:nvPr/>
        </p:nvSpPr>
        <p:spPr>
          <a:xfrm>
            <a:off x="3139920" y="4869000"/>
            <a:ext cx="157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Бо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в жив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Аптека-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 это учреждение, в котором продаются, изготавливаются </a:t>
            </a: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лекарственные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 средст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птеа.jpg"/>
          <p:cNvPicPr/>
          <p:nvPr/>
        </p:nvPicPr>
        <p:blipFill>
          <a:blip r:embed="rId1"/>
          <a:stretch/>
        </p:blipFill>
        <p:spPr>
          <a:xfrm>
            <a:off x="250920" y="2565360"/>
            <a:ext cx="4105080" cy="4021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4427640" y="2565360"/>
            <a:ext cx="453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im5-tub-ru.yandex.net/i?id=187209047-45-72&amp;n=21"/>
          <p:cNvPicPr/>
          <p:nvPr/>
        </p:nvPicPr>
        <p:blipFill>
          <a:blip r:embed="rId1"/>
          <a:stretch/>
        </p:blipFill>
        <p:spPr>
          <a:xfrm>
            <a:off x="2771640" y="549360"/>
            <a:ext cx="3167280" cy="34671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45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Для улучшения аппети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://im6-tub-ru.yandex.net/i?id=129700635-19-72&amp;n=21"/>
          <p:cNvPicPr/>
          <p:nvPr/>
        </p:nvPicPr>
        <p:blipFill>
          <a:blip r:embed="rId1"/>
          <a:stretch/>
        </p:blipFill>
        <p:spPr>
          <a:xfrm>
            <a:off x="611280" y="689040"/>
            <a:ext cx="2976480" cy="2232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im0-tub-ru.yandex.net/i?id=168788253-59-72&amp;n=21"/>
          <p:cNvPicPr/>
          <p:nvPr/>
        </p:nvPicPr>
        <p:blipFill>
          <a:blip r:embed="rId2"/>
          <a:stretch/>
        </p:blipFill>
        <p:spPr>
          <a:xfrm>
            <a:off x="5651640" y="692280"/>
            <a:ext cx="2881080" cy="2881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400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Много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витаминов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при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просту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8101080" y="5445000"/>
            <a:ext cx="73980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125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Я узнал(а)………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Мне было интересно………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Хочу ещё узнать………………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Мне понравилось………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028000" y="5229360"/>
            <a:ext cx="8762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Картинка 62 из 13478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341360"/>
            <a:ext cx="3463920" cy="4680000"/>
          </a:xfrm>
          <a:prstGeom prst="rect">
            <a:avLst/>
          </a:prstGeom>
          <a:ln w="0">
            <a:noFill/>
          </a:ln>
        </p:spPr>
      </p:pic>
      <p:sp>
        <p:nvSpPr>
          <p:cNvPr id="127" name="Содержимое 2"/>
          <p:cNvSpPr/>
          <p:nvPr/>
        </p:nvSpPr>
        <p:spPr>
          <a:xfrm>
            <a:off x="3995640" y="1341360"/>
            <a:ext cx="4896000" cy="4680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Все травы – лекари -души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И зверобой, и медуни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И земляника, и черн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И брусника с голуби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Чистотел, полынь, кал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Лён, календула, крап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Все целебные 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Знаем без исклю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Нужно только не лени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Нужно только науч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Находить в лесу раст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Что пригодны для лечен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Заголовок 1"/>
          <p:cNvSpPr/>
          <p:nvPr/>
        </p:nvSpPr>
        <p:spPr>
          <a:xfrm>
            <a:off x="324000" y="189000"/>
            <a:ext cx="86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Tahoma"/>
                <a:ea typeface="Arial"/>
              </a:rPr>
              <a:t>ЛЕКАРСТВЕНН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f64"/>
          <p:cNvPicPr/>
          <p:nvPr/>
        </p:nvPicPr>
        <p:blipFill>
          <a:blip r:embed="rId3"/>
          <a:stretch/>
        </p:blipFill>
        <p:spPr>
          <a:xfrm>
            <a:off x="2987640" y="5229360"/>
            <a:ext cx="13302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vse_o_lekarstvennyx_rastenijax_657067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0"/>
          <p:cNvSpPr/>
          <p:nvPr/>
        </p:nvSpPr>
        <p:spPr>
          <a:xfrm>
            <a:off x="2700360" y="333360"/>
            <a:ext cx="47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1944720" cy="1943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395280" y="3213000"/>
            <a:ext cx="3013200" cy="3322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>
            <a:off x="3995640" y="404640"/>
            <a:ext cx="4824360" cy="3384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3635280" y="4149720"/>
            <a:ext cx="1928880" cy="247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5"/>
          <a:stretch/>
        </p:blipFill>
        <p:spPr>
          <a:xfrm>
            <a:off x="7093080" y="4221000"/>
            <a:ext cx="2050920" cy="2637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6"/>
          <a:stretch/>
        </p:blipFill>
        <p:spPr>
          <a:xfrm>
            <a:off x="5796000" y="4221000"/>
            <a:ext cx="15127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2472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ак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узнали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ие бывают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 правильно собирать лекарственные растения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добрать лечение для наших друз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13" descr="апт огородпетр.jpg"/>
          <p:cNvPicPr/>
          <p:nvPr/>
        </p:nvPicPr>
        <p:blipFill>
          <a:blip r:embed="rId1"/>
          <a:stretch/>
        </p:blipFill>
        <p:spPr>
          <a:xfrm>
            <a:off x="3564000" y="0"/>
            <a:ext cx="5383080" cy="396072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10" descr="апт ог.jpg"/>
          <p:cNvPicPr/>
          <p:nvPr/>
        </p:nvPicPr>
        <p:blipFill>
          <a:blip r:embed="rId2"/>
          <a:srcRect l="32397" t="0" r="0" b="0"/>
          <a:stretch/>
        </p:blipFill>
        <p:spPr>
          <a:xfrm>
            <a:off x="179280" y="2708280"/>
            <a:ext cx="511344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467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аптекарские огор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апт огород.jpg"/>
          <p:cNvPicPr/>
          <p:nvPr/>
        </p:nvPicPr>
        <p:blipFill>
          <a:blip r:embed="rId1"/>
          <a:stretch/>
        </p:blipFill>
        <p:spPr>
          <a:xfrm>
            <a:off x="179280" y="3357720"/>
            <a:ext cx="4321440" cy="324000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6" descr="хор апт огор.jpg"/>
          <p:cNvPicPr/>
          <p:nvPr/>
        </p:nvPicPr>
        <p:blipFill>
          <a:blip r:embed="rId2"/>
          <a:stretch/>
        </p:blipFill>
        <p:spPr>
          <a:xfrm>
            <a:off x="4572000" y="549360"/>
            <a:ext cx="4392720" cy="3294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028000" y="5429160"/>
            <a:ext cx="9050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2472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 появились 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акие бывают лекарственные растени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 правильно собирать лекарственные растения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добрать лечение для наших друз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715788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Лекарственные раст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10" descr="ромашка.jpg"/>
          <p:cNvPicPr/>
          <p:nvPr/>
        </p:nvPicPr>
        <p:blipFill>
          <a:blip r:embed="rId1"/>
          <a:stretch/>
        </p:blipFill>
        <p:spPr>
          <a:xfrm>
            <a:off x="2484360" y="765000"/>
            <a:ext cx="2384640" cy="178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Картинка 14 из 194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492280"/>
            <a:ext cx="2409840" cy="1803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Картинка 5 из 12256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56360" y="620640"/>
            <a:ext cx="2808360" cy="2273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Картинка 29 из 165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6920" y="4630680"/>
            <a:ext cx="2533680" cy="2227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Картинка 14 из 1959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16360" y="4446720"/>
            <a:ext cx="2916360" cy="2411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Картинка 5 из 2219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79280" y="189000"/>
            <a:ext cx="1621080" cy="216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original"/>
          <p:cNvPicPr/>
          <p:nvPr/>
        </p:nvPicPr>
        <p:blipFill>
          <a:blip r:embed="rId12"/>
          <a:stretch/>
        </p:blipFill>
        <p:spPr>
          <a:xfrm>
            <a:off x="2195640" y="3284640"/>
            <a:ext cx="2950920" cy="2212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zelenplaneta.ru/uploads/posts/2010-02/1267214630_1264959249_nettle_4.jpg"/>
          <p:cNvPicPr/>
          <p:nvPr/>
        </p:nvPicPr>
        <p:blipFill>
          <a:blip r:embed="rId13"/>
          <a:stretch/>
        </p:blipFill>
        <p:spPr>
          <a:xfrm>
            <a:off x="4284720" y="1989000"/>
            <a:ext cx="2413080" cy="168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Безымянный77899"/>
          <p:cNvPicPr/>
          <p:nvPr/>
        </p:nvPicPr>
        <p:blipFill>
          <a:blip r:embed="rId14"/>
          <a:stretch/>
        </p:blipFill>
        <p:spPr>
          <a:xfrm>
            <a:off x="6804000" y="3141720"/>
            <a:ext cx="1901880" cy="2259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5"/>
          <a:stretch/>
        </p:blipFill>
        <p:spPr>
          <a:xfrm>
            <a:off x="8404200" y="5689440"/>
            <a:ext cx="73980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5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одержимое 5" descr="пол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5-13T19:30:05Z</dcterms:modified>
  <cp:revision>34</cp:revision>
  <dc:subject/>
  <dc:title>Слайд 1</dc:title>
</cp:coreProperties>
</file>